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FFD05-FC64-4B8B-99BC-580A59128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B4039-DCC9-402C-A56A-FE77B3C23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56BE5-8BDA-4C73-A18F-7F9833857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53952-FF4E-4C5D-B358-7E39135F3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67C9E2-EBAA-4965-B9B2-BA25557BCD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C00F6-CECC-4371-86AD-8CF3E80F9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968C4-C2F0-465A-BDB9-1EB68E643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81BC0-1FCA-430E-BE21-D3B8A6798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0107A-6E37-42AE-A3F5-BCA94E100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FB965-3D43-465B-AF0D-80EEC1AF1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A7A13-4B42-414C-ABCA-5F7BEE877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42977-306C-4465-9A97-AE5988820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14224-E84E-4634-BD14-EF6A43625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63068-1727-4F0B-97B2-758D064C2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79FBD-3A3C-425C-91D6-BB37AE112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91C2C8-1844-4611-A234-6B75F56FEF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5C147-10FA-4406-8858-5501251DD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972ED-8772-4835-8362-0B539ACB7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BB0A9-0870-46B0-96DA-D2C223471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2E87F-48C3-48A1-8213-FD23C04C7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D87C2-E238-44B9-8875-7562103A0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90A97-B9ED-48AF-A245-E6F4BA766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8A3C8-870B-49E6-8465-6917F4115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A72E1-DD70-4B14-9E80-DCCF956E7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ED49-ADF5-4DDB-9A3E-775515FFB0C4}"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34253-8DDF-4932-AE31-1F8926AD53B4}"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iMovie/6-12/Session 1 of 3</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shop Titl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7"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tudents will share the following aspects of their project:</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process of importing video.</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xplain what was edited from your movie and why it was cut.</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hat part of this lesson do you feel students in other classes will need the most help with?</a:t>
            </a:r>
            <a:endParaRPr b="0" lang="en-US" sz="2400" spc="-1" strike="noStrike">
              <a:solidFill>
                <a:srgbClr val="212164"/>
              </a:solidFill>
              <a:latin typeface="Arial"/>
            </a:endParaRPr>
          </a:p>
        </p:txBody>
      </p:sp>
      <p:sp>
        <p:nvSpPr>
          <p:cNvPr id="109"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0"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1"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2"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oday we have seen how the choices we make as editors can effect the flow of the story.</a:t>
            </a:r>
            <a:endParaRPr b="0" lang="en-US" sz="2400" spc="-1" strike="noStrike">
              <a:solidFill>
                <a:srgbClr val="212164"/>
              </a:solidFill>
              <a:latin typeface="Arial"/>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67480" indent="-2674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have learned how to import digital media into iMovie.</a:t>
            </a:r>
            <a:endParaRPr b="0" lang="en-US" sz="2400" spc="-1" strike="noStrike">
              <a:solidFill>
                <a:srgbClr val="212164"/>
              </a:solidFill>
              <a:latin typeface="Arial"/>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67480" indent="-2674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have learned how to edit digital film in iMovie.</a:t>
            </a:r>
            <a:endParaRPr b="0" lang="en-US" sz="24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2674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3"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	</a:t>
            </a:r>
            <a:r>
              <a:rPr b="0" lang="en-US" sz="3200" spc="-1" strike="noStrike">
                <a:solidFill>
                  <a:srgbClr val="212164"/>
                </a:solidFill>
                <a:latin typeface="Lucida Grande"/>
              </a:rPr>
              <a:t>How can we import and edit video footage in iMovie?</a:t>
            </a:r>
            <a:endParaRPr b="0" lang="en-US" sz="32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343080">
              <a:lnSpc>
                <a:spcPct val="90000"/>
              </a:lnSpc>
              <a:spcBef>
                <a:spcPts val="799"/>
              </a:spcBef>
              <a:buClr>
                <a:srgbClr val="21216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How can we use iMovie to tell a story?</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lnSpc>
                <a:spcPct val="90000"/>
              </a:lnSpc>
              <a:spcBef>
                <a:spcPts val="799"/>
              </a:spcBef>
              <a:buClr>
                <a:srgbClr val="21216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How can we save an iMovie project?</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How a director chooses to edit clips effects the way the story is told to the viewer. What choices do we make when selecting scenes? Can we take the footage, edit it, and turn it into a story?</a:t>
            </a:r>
            <a:endParaRPr b="0" lang="en-US" sz="24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This lesson will focus on the following skills:</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mporting video into iMovie</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diting video clips in iMovie</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ing an iMovie project</a:t>
            </a:r>
            <a:endParaRPr b="0" lang="en-US" sz="2400" spc="-1" strike="noStrike">
              <a:solidFill>
                <a:srgbClr val="212164"/>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What are some of the sources of digital video?</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 video camera</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Online download (United Streaming, this lesson)</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 DVD (and additional software to import movies)</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oday’s skills will focus on:</a:t>
            </a:r>
            <a:endParaRPr b="0" lang="en-US" sz="28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importing digital video into iMovie.</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editing digital video (trim clips, split clips, and add clips to the timeline)</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ing movie projects</a:t>
            </a:r>
            <a:endParaRPr b="0" lang="en-US" sz="2400" spc="-1" strike="noStrike">
              <a:solidFill>
                <a:srgbClr val="212164"/>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Lucida Grande"/>
              </a:rPr>
              <a:t>(see the tutorial for lesson 1 for specific directions)</a:t>
            </a:r>
            <a:endParaRPr b="0" lang="en-US" sz="2400" spc="-1" strike="noStrike">
              <a:solidFill>
                <a:srgbClr val="212164"/>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Take the next 30 minutes to import video and begin editing your footage. Then we will come back together and share.</a:t>
            </a: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164"/>
                </a:solidFill>
                <a:latin typeface="Arial"/>
              </a:rPr>
              <a:t>Participant Activity</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mport video into iMovie.</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rag clips into the Timeline and place them in order.</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dit clips using the Crop and Split Clip at Playhead feature.</a:t>
            </a:r>
            <a:endParaRPr b="0" lang="en-US" sz="2400" spc="-1" strike="noStrike">
              <a:solidFill>
                <a:srgbClr val="212164"/>
              </a:solidFill>
              <a:latin typeface="Arial"/>
            </a:endParaRPr>
          </a:p>
          <a:p>
            <a:pPr marL="343080" indent="-343080">
              <a:lnSpc>
                <a:spcPct val="90000"/>
              </a:lnSpc>
              <a:spcBef>
                <a:spcPts val="601"/>
              </a:spcBef>
              <a:spcAft>
                <a:spcPts val="1599"/>
              </a:spcAft>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e the iMovie project.</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YCD DOE</cp:lastModifiedBy>
  <dcterms:modified xsi:type="dcterms:W3CDTF">2007-03-06T17:08:58Z</dcterms:modified>
  <cp:revision>35</cp:revision>
  <dc:subject/>
  <dc:title>Workshop Title</dc:title>
</cp:coreProperties>
</file>